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0AC1-FE80-4D51-BA3D-B1427A9CF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B37E-0AC8-4429-BC0B-72D92911E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6203-BFF7-4DC5-974A-2E307EF99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2548-632C-42B1-A5CF-76046C1F2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4A7B-0C0B-4958-82F4-E65EC5F3B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E15B-99B1-47B9-8097-F6C8486C3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FC36-35A6-497C-BAE7-627ECD8B3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21B7-00DE-4E0E-A338-15663D37C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002C-7DC8-4100-AB78-D98664011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E8A3-79FB-4515-852B-9F837F2E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96F7-CDA9-4D08-9FA4-5BCC66CD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2586-1625-48B6-8B8F-54C52403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720A6-1F81-4EE6-B741-237037DEE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1" descr="podloga"/>
          <p:cNvPicPr/>
          <p:nvPr/>
        </p:nvPicPr>
        <p:blipFill>
          <a:blip r:embed="rId1"/>
          <a:stretch/>
        </p:blipFill>
        <p:spPr>
          <a:xfrm>
            <a:off x="649440" y="482760"/>
            <a:ext cx="7921440" cy="59306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9"/>
          <p:cNvSpPr/>
          <p:nvPr/>
        </p:nvSpPr>
        <p:spPr>
          <a:xfrm>
            <a:off x="611280" y="5589720"/>
            <a:ext cx="777240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Катарина Парезанови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ћ Илић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3" name="Text Box 16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" name="Text Box 18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" name="Rectangle 20"/>
          <p:cNvSpPr/>
          <p:nvPr/>
        </p:nvSpPr>
        <p:spPr>
          <a:xfrm>
            <a:off x="611280" y="2708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Фототерапија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90040" y="1162080"/>
            <a:ext cx="815364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cc00"/>
                </a:solidFill>
                <a:latin typeface="Arial"/>
              </a:rPr>
              <a:t>УЛТРАВИОЛЕТНИ ЗРА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4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При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одн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звo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 Су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Вeштачки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изв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ор UV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зр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aka ,,kвa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ц,, ламп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Поде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1904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ultravioletni zraci A (UVA) talasne dužine 380 - 315 n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1904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ultravioletni zraci B (UVB) talasne dužine 315 - 280 n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1904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ultravioletni zraci C (UVC) talasne dužine 280 - 13,6 n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723960"/>
            <a:ext cx="8229600" cy="54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c00"/>
                </a:solidFill>
                <a:latin typeface="Arial"/>
              </a:rPr>
              <a:t>Билошко </a:t>
            </a:r>
            <a:r>
              <a:rPr b="1" lang="sr-CS" sz="2800" spc="-1" strike="noStrike">
                <a:solidFill>
                  <a:srgbClr val="ffcc00"/>
                </a:solidFill>
                <a:latin typeface="Arial"/>
              </a:rPr>
              <a:t>и </a:t>
            </a:r>
            <a:r>
              <a:rPr b="1" lang="en-GB" sz="2800" spc="-1" strike="noStrike">
                <a:solidFill>
                  <a:srgbClr val="ffcc00"/>
                </a:solidFill>
                <a:latin typeface="Arial"/>
              </a:rPr>
              <a:t>физиолошко дејство УВ зра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фотoхемијск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ф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нo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мен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змена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рa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пo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дa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дноса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тoмa (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пр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в.Д у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, с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еза хлoрoф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л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,об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азују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л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д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 радикали,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аkт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рajу се eнз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,о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лoбaђaњe хи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тамина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фoтoe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eк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и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ф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енoмe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ањe eлek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тр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чн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aв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отeжe a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том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a е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ми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joм e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eк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рo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(п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eлaзak kо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oидa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з с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тaњa сo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у геl,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eна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ту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рaц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јa бeлa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чeви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фe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омe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флуоресценције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eња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e к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н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eт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чkoг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тања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омa деплaсирa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њем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e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лектр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oна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a јe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дн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утaњe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a д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у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(kорис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ти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е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у ди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jа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нo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ти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чкe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х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019240" y="2514600"/>
            <a:ext cx="54864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развој ери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пигмент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стимулација регенерације ћел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убрзање гранулације епит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бактерицидно делов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1238400" y="1219320"/>
            <a:ext cx="661032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Локална дејства УВ зрака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238400" y="592200"/>
            <a:ext cx="661032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Општа дејства УВ зрака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384120" y="1521000"/>
            <a:ext cx="8350200" cy="23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Повећање имуните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Повећање броја еритроцита и хемоглобина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ормализује хо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стерол,гликемиј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Ca 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P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тимулација ЦНС И ВНС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тимулише функцију полних жледа,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шти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сте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дбу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ежне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1238400" y="3887640"/>
            <a:ext cx="6610320" cy="25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Терапијска дејства УВ зрака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трофичко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побољшање регенерације (епителизација)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аналгетско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1238400" y="1219320"/>
            <a:ext cx="661032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ФОТОСЕНЗИБИЛИЗАТОРИ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1362240" y="2597040"/>
            <a:ext cx="6330960" cy="28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ндогени-жучне боје, порфирин, тироксин, гонадотропни хормони, адреналин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гзогени-соли тешких метала, пеницилин, антибиотици, сулфонамиди, риванол, еозин, соли злата и др.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1238400" y="1012680"/>
            <a:ext cx="661032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БИОДОЗА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1460520" y="2010960"/>
            <a:ext cx="622296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ера индивидуалне и регионалне осетљивости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јмање трајање зрачења,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а одређеном кварцном лампом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 са одређеног растојања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је изазива праговни еритем.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зражава се  у минутима.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иодoз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етар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grpSp>
        <p:nvGrpSpPr>
          <p:cNvPr id="106" name="Group 15"/>
          <p:cNvGrpSpPr/>
          <p:nvPr/>
        </p:nvGrpSpPr>
        <p:grpSpPr>
          <a:xfrm>
            <a:off x="5772240" y="4791240"/>
            <a:ext cx="1008000" cy="1670040"/>
            <a:chOff x="5772240" y="4791240"/>
            <a:chExt cx="1008000" cy="1670040"/>
          </a:xfrm>
        </p:grpSpPr>
        <p:sp>
          <p:nvSpPr>
            <p:cNvPr id="107" name="Rectangle 6"/>
            <p:cNvSpPr/>
            <p:nvPr/>
          </p:nvSpPr>
          <p:spPr>
            <a:xfrm>
              <a:off x="5848200" y="4791240"/>
              <a:ext cx="932040" cy="1670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9900"/>
                </a:solidFill>
                <a:latin typeface="Arial"/>
              </a:endParaRPr>
            </a:p>
          </p:txBody>
        </p:sp>
        <p:sp>
          <p:nvSpPr>
            <p:cNvPr id="108" name="Rectangle 7"/>
            <p:cNvSpPr/>
            <p:nvPr/>
          </p:nvSpPr>
          <p:spPr>
            <a:xfrm>
              <a:off x="5972040" y="4933800"/>
              <a:ext cx="662040" cy="3146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9900"/>
                </a:solidFill>
                <a:latin typeface="Arial"/>
              </a:endParaRPr>
            </a:p>
          </p:txBody>
        </p:sp>
        <p:sp>
          <p:nvSpPr>
            <p:cNvPr id="109" name="Rectangle 13"/>
            <p:cNvSpPr/>
            <p:nvPr/>
          </p:nvSpPr>
          <p:spPr>
            <a:xfrm>
              <a:off x="5972040" y="5457960"/>
              <a:ext cx="662040" cy="314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9900"/>
                </a:solidFill>
                <a:latin typeface="Arial"/>
              </a:endParaRPr>
            </a:p>
          </p:txBody>
        </p:sp>
        <p:sp>
          <p:nvSpPr>
            <p:cNvPr id="110" name="Rectangle 14"/>
            <p:cNvSpPr/>
            <p:nvPr/>
          </p:nvSpPr>
          <p:spPr>
            <a:xfrm>
              <a:off x="5972040" y="5943600"/>
              <a:ext cx="662040" cy="314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9900"/>
                </a:solidFill>
                <a:latin typeface="Arial"/>
              </a:endParaRPr>
            </a:p>
          </p:txBody>
        </p:sp>
        <p:sp>
          <p:nvSpPr>
            <p:cNvPr id="111" name="Text Box 12"/>
            <p:cNvSpPr/>
            <p:nvPr/>
          </p:nvSpPr>
          <p:spPr>
            <a:xfrm>
              <a:off x="5772240" y="4962600"/>
              <a:ext cx="600120" cy="12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2160" indent="-92160"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4d4d4d"/>
                  </a:solidFill>
                  <a:latin typeface="Arial"/>
                </a:rPr>
                <a:t>1</a:t>
              </a:r>
              <a:endParaRPr b="1" lang="en-US" sz="1200" spc="-1" strike="noStrike">
                <a:solidFill>
                  <a:srgbClr val="ff9900"/>
                </a:solidFill>
                <a:latin typeface="Arial"/>
              </a:endParaRPr>
            </a:p>
            <a:p>
              <a:pPr marL="92160" indent="-92160"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9900"/>
                </a:solidFill>
                <a:latin typeface="Arial"/>
              </a:endParaRPr>
            </a:p>
            <a:p>
              <a:pPr marL="92160" indent="-92160"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4d4d4d"/>
                  </a:solidFill>
                  <a:latin typeface="Arial"/>
                </a:rPr>
                <a:t>2</a:t>
              </a:r>
              <a:endParaRPr b="1" lang="en-US" sz="1200" spc="-1" strike="noStrike">
                <a:solidFill>
                  <a:srgbClr val="ff9900"/>
                </a:solidFill>
                <a:latin typeface="Arial"/>
              </a:endParaRPr>
            </a:p>
            <a:p>
              <a:pPr marL="92160" indent="-92160"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9900"/>
                </a:solidFill>
                <a:latin typeface="Arial"/>
              </a:endParaRPr>
            </a:p>
            <a:p>
              <a:pPr marL="92160" indent="-92160"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4d4d4d"/>
                  </a:solidFill>
                  <a:latin typeface="Arial"/>
                </a:rPr>
                <a:t>3</a:t>
              </a:r>
              <a:endParaRPr b="1" lang="en-US" sz="1200" spc="-1" strike="noStrike">
                <a:solidFill>
                  <a:srgbClr val="ff99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60240" y="2460240"/>
            <a:ext cx="7707600" cy="39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Степен ерите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Времe зрачeњa у мин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Биодo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   2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у мин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Slab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  +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Jak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  +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0,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Slab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   +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Jak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   +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1,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Slab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      +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Jak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      +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3,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238400" y="1012680"/>
            <a:ext cx="661032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БИОДОЗА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1238400" y="1012680"/>
            <a:ext cx="661032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Дозирање УВ зрака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1460520" y="2305080"/>
            <a:ext cx="6222960" cy="33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уберитемна доза-1/2 биодозе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незнатно црвенило)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ритемна доза 1-3 биодозе 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црвенило)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Хипереритемно 3-5 биодозе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еритем јаког степена)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етко се примењује-кожна обољења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717280" y="2685960"/>
            <a:ext cx="4986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ековаленсцен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остеопор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остеомијелит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тања после прел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анем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ахит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238400" y="1236600"/>
            <a:ext cx="661032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Индикације УВ зрака-опште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42520" y="2099880"/>
            <a:ext cx="8325000" cy="40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кожне болести -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ак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нае вулгарис,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лопе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ц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иа,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сориасис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декуби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неуролошке болести - неуралгиа, неуритис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цервикални 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сy,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лумбални 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сy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реуматолошке болести - дегенеративни реуматизам,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 ванзглобни реуматизам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гинеколошке болести - адне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кс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итис, дисменореја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васкуларна хирургија - торпидне ране на васкуларној основи, ул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ус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рурис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офтамологија - блефаритис, трахом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ортопедија - стања после фра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туре костију, повреде меких ткива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1238400" y="960480"/>
            <a:ext cx="661032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Индикације УВ зрака-локално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6840" y="549000"/>
            <a:ext cx="84358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cc00"/>
                </a:solidFill>
                <a:latin typeface="Arial"/>
              </a:rPr>
              <a:t>Фототерапија је примена светлосне енергије Сунца или вештачких извора светлости у циљу лечењ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cc00"/>
                </a:solidFill>
                <a:latin typeface="Arial"/>
              </a:rPr>
              <a:t>Светлосни зраци су материјалне природе, састоје се од честица,фотона,који при кретању кроз простор представљају одређени квант светлосне енергије-светлосни ква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Величина светлосног кванта енергије зависи од таласне дужине </a:t>
            </a:r>
            <a:r>
              <a:rPr b="1" lang="sr-Latn-CS" sz="2000" spc="-1" strike="noStrike">
                <a:solidFill>
                  <a:srgbClr val="ffffff"/>
                </a:solidFill>
                <a:latin typeface="Symbol"/>
                <a:ea typeface="Symbol"/>
              </a:rPr>
              <a:t>л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одређене врсте светлосног зрачења према форму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Object 16"/>
          <p:cNvGraphicFramePr/>
          <p:nvPr/>
        </p:nvGraphicFramePr>
        <p:xfrm>
          <a:off x="1990800" y="2978280"/>
          <a:ext cx="5065560" cy="79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0800" y="2978280"/>
                    <a:ext cx="506556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51" name="Object 19"/>
          <p:cNvGraphicFramePr/>
          <p:nvPr/>
        </p:nvGraphicFramePr>
        <p:xfrm>
          <a:off x="1014480" y="3906720"/>
          <a:ext cx="309600" cy="32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14480" y="3906720"/>
                    <a:ext cx="30960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Text Box 22"/>
          <p:cNvSpPr/>
          <p:nvPr/>
        </p:nvSpPr>
        <p:spPr>
          <a:xfrm>
            <a:off x="1374840" y="387036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Светлосни квант (енергија)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4" name="Text Box 23"/>
          <p:cNvSpPr/>
          <p:nvPr/>
        </p:nvSpPr>
        <p:spPr>
          <a:xfrm>
            <a:off x="971640" y="4479840"/>
            <a:ext cx="7921440" cy="16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600" spc="-1" strike="noStrike">
                <a:solidFill>
                  <a:srgbClr val="ffffff"/>
                </a:solidFill>
                <a:latin typeface="Times New Roman"/>
              </a:rPr>
              <a:t>h = 6,6226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i="1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sr-Latn-CS" sz="26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sr-Latn-CS" sz="2400" spc="-1" strike="noStrike">
                <a:solidFill>
                  <a:srgbClr val="ffffff"/>
                </a:solidFill>
                <a:latin typeface="Times New Roman"/>
              </a:rPr>
              <a:t>J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·</a:t>
            </a:r>
            <a:r>
              <a:rPr b="0" i="1" lang="sr-Latn-CS" sz="2400" spc="-1" strike="noStrike">
                <a:solidFill>
                  <a:srgbClr val="ffffff"/>
                </a:solidFill>
                <a:latin typeface="Times New Roman"/>
              </a:rPr>
              <a:t> S 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Планковa koнстaнтa</a:t>
            </a:r>
            <a:endParaRPr b="1" lang="en-US" sz="20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λ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6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алaснa ду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жи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a              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sr-Latn-CS" sz="2800" spc="-1" strike="noStrike">
                <a:solidFill>
                  <a:srgbClr val="ffffff"/>
                </a:solidFill>
                <a:latin typeface="Symbol"/>
                <a:ea typeface="Symbol"/>
              </a:rPr>
              <a:t>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феквeнција</a:t>
            </a:r>
            <a:endParaRPr b="1" lang="en-US" sz="20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sr-Latn-CS" sz="26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300 000 km/sec 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брзина простирaњa светлoсти у вaкуму</a:t>
            </a:r>
            <a:endParaRPr b="1" lang="en-US" sz="2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5" name="Text Box 24"/>
          <p:cNvSpPr/>
          <p:nvPr/>
        </p:nvSpPr>
        <p:spPr>
          <a:xfrm>
            <a:off x="2889360" y="44258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ff"/>
                </a:solidFill>
                <a:latin typeface="Times New Roman"/>
              </a:rPr>
              <a:t>-34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563040" y="1738440"/>
            <a:ext cx="813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ктивна ТБЦ плућ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хипертиреодиза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шећерна болес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психијатријска обољењ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кахексија,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фотогене болести коже - пелагра, лупус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младеж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декомпензације виталних органа – срца, јетре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рентген дерматитис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малигни тумори коже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хипервитаминоза Б1,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1065240" y="787320"/>
            <a:ext cx="7076880" cy="20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Контраиндикације УВ зрака-локално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544320" y="1703520"/>
            <a:ext cx="8142120" cy="42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RA zraci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770 - 1500 n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RB zraci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1500 - 3000 n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RC zraci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preko 3000 n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cc00"/>
                </a:solidFill>
                <a:latin typeface="Arial"/>
              </a:rPr>
              <a:t>Извори I</a:t>
            </a:r>
            <a:r>
              <a:rPr b="1" lang="sr-Latn-CS" sz="2200" spc="-1" strike="noStrike">
                <a:solidFill>
                  <a:srgbClr val="ffcc00"/>
                </a:solidFill>
                <a:latin typeface="Arial"/>
              </a:rPr>
              <a:t>R</a:t>
            </a:r>
            <a:r>
              <a:rPr b="1" lang="de-DE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ffcc00"/>
                </a:solidFill>
                <a:latin typeface="Arial"/>
              </a:rPr>
              <a:t>зр</a:t>
            </a:r>
            <a:r>
              <a:rPr b="1" lang="de-DE" sz="2200" spc="-1" strike="noStrike">
                <a:solidFill>
                  <a:srgbClr val="ffcc00"/>
                </a:solidFill>
                <a:latin typeface="Arial"/>
              </a:rPr>
              <a:t>ак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рир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oдн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извор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је Су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ц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Вeштaчk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извори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Лaмпa сa 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си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jaл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ицом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od 150 - 1500 W, 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иje 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су спирале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нa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пр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вље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 од 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волфрама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. 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Бe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јaњe (oкo 3000º Ц) eми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ту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je k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рат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ke зраke вел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ke 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оп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нe ene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рги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j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961640" indent="330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sr-Latn-CS" sz="2200" spc="-1" strike="noStrike">
                <a:solidFill>
                  <a:srgbClr val="ffffff"/>
                </a:solidFill>
                <a:latin typeface="Arial"/>
              </a:rPr>
              <a:t>Solux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lampa"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961640" indent="330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јaч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сa 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ф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ктo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o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961640" indent="330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Светлоснe куп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065240" y="735120"/>
            <a:ext cx="707688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ИНФРАЦРВЕНИ ЗРАЦИ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923840" y="1876320"/>
            <a:ext cx="60735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cc00"/>
                </a:solidFill>
                <a:latin typeface="Arial"/>
              </a:rPr>
              <a:t>Физиоло</a:t>
            </a:r>
            <a:r>
              <a:rPr b="1" lang="sr-Latn-CS" sz="2400" spc="-1" strike="noStrike">
                <a:solidFill>
                  <a:srgbClr val="ffcc00"/>
                </a:solidFill>
                <a:latin typeface="Arial"/>
              </a:rPr>
              <a:t>шко деј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Продорност ИР зрака 0,5-10 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Локалне реакције-еритем,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нехомоге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без латенрног периода,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пигмент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Arial"/>
              </a:rPr>
              <a:t>Терапијско дејство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аналгез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антиедематозно дејство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спазмолитички ефек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трофички-гранул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1065240" y="735120"/>
            <a:ext cx="707688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00"/>
                </a:solidFill>
                <a:latin typeface="Arial"/>
              </a:rPr>
              <a:t>ИНФРАЦРВЕНИ ЗРАЦИ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836720" y="1600200"/>
            <a:ext cx="6470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Дозирање ИР зра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Растојање 30-40 цм (субјективни осећај топлот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Трајање зрачења 5-20 мин,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серија 10-15 дана,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пауза 10 д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544400" y="1911240"/>
            <a:ext cx="6538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увод у ЕС, СГ, ЕФ, тракције, КТХ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лезије ПМН,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мyалгиа,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неуралги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посттрауматска стања меких ткива 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(после 48 часова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ванзглобни реуматизам, дегенеративни реуматиза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фурункулоза,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гљивична обољења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болови после екстракције зуба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фронтални и максиларни синусити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1065240" y="787320"/>
            <a:ext cx="707688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Индикације ИР зрак</a:t>
            </a:r>
            <a:r>
              <a:rPr b="1" lang="sr-Latn-CS" sz="3200" spc="-1" strike="noStrike">
                <a:solidFill>
                  <a:srgbClr val="ffcc00"/>
                </a:solidFill>
                <a:latin typeface="Arial"/>
              </a:rPr>
              <a:t>а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719360" y="1996920"/>
            <a:ext cx="6486480" cy="41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акутна фебрилна стањ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акутна запаљења коже и зглобов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склоност ка крварењ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малигни процес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оклузивна артеријска обољењ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анестезија коже на термичке драж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декомпензација виталних орга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екцем, дерматитис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1065240" y="787320"/>
            <a:ext cx="707688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Контраиндикације ИР зрак</a:t>
            </a:r>
            <a:r>
              <a:rPr b="1" lang="sr-Latn-CS" sz="3200" spc="-1" strike="noStrike">
                <a:solidFill>
                  <a:srgbClr val="ffcc00"/>
                </a:solidFill>
                <a:latin typeface="Arial"/>
              </a:rPr>
              <a:t>a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92160" indent="-9216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925560" y="2030400"/>
            <a:ext cx="749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3300"/>
                </a:solidFill>
                <a:latin typeface="Arial"/>
              </a:rPr>
              <a:t>Електромагнетни зраци</a:t>
            </a:r>
            <a:r>
              <a:rPr b="1" lang="de-DE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ff3300"/>
                </a:solidFill>
                <a:latin typeface="Arial"/>
              </a:rPr>
              <a:t>Таласне дужине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Gama zraci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0,001 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0,01 nm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X zraci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0,01 – 10 nm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U.V. Zraci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10 – 380 nnm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Vidljivi zraci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380 – 760 nm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I.R. Zraci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760 – 1 cm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Mikrotalasi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1 – 10 cm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Radiotalasi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do 1 km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533520" y="762120"/>
            <a:ext cx="8172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cc00"/>
                </a:solidFill>
                <a:latin typeface="Arial"/>
              </a:rPr>
              <a:t>Елекромагнетни спектар према таласној дужини активних електромагнетних зрака</a:t>
            </a:r>
            <a:endParaRPr b="1" lang="en-US" sz="26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10920" y="925560"/>
            <a:ext cx="8281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cc00"/>
                </a:solidFill>
                <a:latin typeface="Arial"/>
              </a:rPr>
              <a:t>ПОДЕЛА ФОТОТЕРАП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Хелиотeрап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јa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терапија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сунчaње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Хро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eтe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апијa (делoвaњe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оje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д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х бoја из 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    в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дљ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в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ог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ела спeктр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лтр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aвиоле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з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ац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(UV zrac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Инф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ац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ве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з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ц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(IR zrac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Лaсе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отe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п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јa (LASER - Light Amplification 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y Stimulated Emission of Radi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630360" y="148428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ХЕЛИОТЕРАП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Сунчева с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тло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т с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држи 60% 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Ц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35% в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дљи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е с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тло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ти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1-3% У.В.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2% остал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х зрaк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Ефеkат дeловaњa Сунцa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за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ис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гo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д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шње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о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дo</a:t>
            </a:r>
            <a:r>
              <a:rPr b="1" lang="sr-RS" sz="2400" spc="-1" strike="noStrike">
                <a:solidFill>
                  <a:srgbClr val="ffffff"/>
                </a:solidFill>
                <a:latin typeface="Arial"/>
              </a:rPr>
              <a:t>ба д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aн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облач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o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де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нe ваз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уш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ог слoј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праш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aдмо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скe ви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cc00"/>
                </a:solidFill>
                <a:latin typeface="Arial"/>
              </a:rPr>
              <a:t>Физиолошко деловање Сун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611280" y="2708280"/>
            <a:ext cx="792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1278000" y="1989000"/>
            <a:ext cx="693252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Јачање организма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Побољшање тургора коже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Продукција витамина Д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Јачање имунобиолошке реакције  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   организма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Повећана размена гасова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Уравнотеженост вегетативног нервног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система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Повећање броја еритроцита, лимфоцита,  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еозинофила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630360" y="1380960"/>
            <a:ext cx="7921440" cy="44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Arial"/>
              </a:rPr>
              <a:t>Дозирање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Arial"/>
              </a:rPr>
              <a:t>Постепено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Arial"/>
              </a:rPr>
              <a:t>Одређени део дана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Arial"/>
              </a:rPr>
              <a:t>Шема сунчања по Роллиер-у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Arial"/>
              </a:rPr>
              <a:t>Маx.3 сата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cc00"/>
                </a:solidFill>
                <a:latin typeface="Arial"/>
              </a:rPr>
              <a:t>Ивдивидуална осетљивост (пол, раса, узраст, регија тела)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50560" y="1020240"/>
            <a:ext cx="858996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cc00"/>
                </a:solidFill>
                <a:latin typeface="Arial"/>
              </a:rPr>
              <a:t>Индикације за хелиотерапи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1695600" y="2178000"/>
            <a:ext cx="683892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лезије периферног моторног неурона,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дегенеративна реуматска обољења,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псориасис вулгарис,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екцем, рахитис,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хипохромна анемија,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инфекције респираторних путева,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реконвалесценција,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ТБЦ костију,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вегетативни поремећаји и др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117440"/>
            <a:ext cx="8229600" cy="11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cc00"/>
                </a:solidFill>
                <a:latin typeface="Arial"/>
              </a:rPr>
              <a:t>Контраиндикације за хелиотерапи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2171880" y="2349360"/>
            <a:ext cx="5810040" cy="37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инфективне болести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активна ТБЦ плућа,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срчани деко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пензовани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болесници,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фебрилна стања,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склоност ка крварењу,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малигна обољења,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стања после ЦВИ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1T07:34:11Z</dcterms:created>
  <dc:creator>Vojislav Ilic</dc:creator>
  <dc:description/>
  <dc:language>en-US</dc:language>
  <cp:lastModifiedBy>katarinaparezanovicilic@gmail.com</cp:lastModifiedBy>
  <dcterms:modified xsi:type="dcterms:W3CDTF">2020-09-26T16:52:12Z</dcterms:modified>
  <cp:revision>40</cp:revision>
  <dc:subject/>
  <dc:title>Slide 1</dc:title>
</cp:coreProperties>
</file>