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258-AFF2-4364-8D8C-93164C7C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3A8-B3A0-45F1-BE43-62648FDD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4DF-7D2D-4719-B652-7765F432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8ED-0E39-4A64-8DFF-F9ADEF3C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433-B106-4745-A717-8C1AA83F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72F-4709-4070-A9F2-4C6C05D5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D0E-215D-48E9-9F89-B583EBC0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486-7EF5-45AB-A261-DA39DC3A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71A-BECB-4C70-95A1-752A723E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BC4-B87C-4E00-AC92-2CF36613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A1A-18EA-409F-9F68-B33977BB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240-D04C-4F67-8E69-A0B08CC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3982-8569-41F3-AC66-ABAEFF17D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738360" y="558720"/>
            <a:ext cx="7667280" cy="5740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атарина Парезанови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ћ Илић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886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cc00"/>
                </a:solidFill>
                <a:latin typeface="Arial"/>
              </a:rPr>
              <a:t>Физикална медицина и рехабилитациј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1332000" y="18572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5"/>
          <p:cNvSpPr/>
          <p:nvPr/>
        </p:nvSpPr>
        <p:spPr>
          <a:xfrm>
            <a:off x="1332000" y="22176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11280" y="549360"/>
            <a:ext cx="79214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Оштећење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ривремени или трајни психички, анатомски ил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физиолошки губитак,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поремећај структуре или функциј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Инвалид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соба која због урођеног или стеченог недостатка физичких или менталних способности не може себ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(делимично или у потпуности)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а обезбеди услове за вођење личног или друштвеног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Arial"/>
              </a:rPr>
              <a:t>Хендикеп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Степен ограничености које особа показује у самозбрињавању, професији, културном и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руштвеном животу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Arial"/>
              </a:rPr>
              <a:t>Физикална медиц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yсис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физикал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медицин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а -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природна медицина</a:t>
            </a:r>
            <a:r>
              <a:rPr b="0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Поде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ПРОФИЛА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ДИЈАГНО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ФИЗИКАЛ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Задац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успостављање о</a:t>
            </a:r>
            <a:r>
              <a:rPr b="1" lang="sl-SI" sz="2800" spc="-1" strike="noStrike">
                <a:solidFill>
                  <a:srgbClr val="990033"/>
                </a:solidFill>
                <a:latin typeface="Arial"/>
              </a:rPr>
              <a:t>ш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тећених функција или</a:t>
            </a: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0033"/>
                </a:solidFill>
                <a:latin typeface="Arial"/>
              </a:rPr>
              <a:t>њихова компензациј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побољшање нарушене ауторегула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33"/>
                </a:solidFill>
                <a:latin typeface="Arial"/>
              </a:rPr>
              <a:t>максимално смањење физичке неспособности после обољења или пов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53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Циљеви физикал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или отклањање бо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е циркула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локалног и општег метаболиз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смањење еде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побољшање еластичности тки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авладјивање контрактура (артрогене, миогене, </a:t>
            </a: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дезмоген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...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пре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авање стварања ожиља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тимул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исање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 зарастања костиј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смањење тонуса симпатикус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моторна реедукација након одузетости или инактивите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вентилаторне фун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побољшање кард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олошк</a:t>
            </a:r>
            <a:r>
              <a:rPr b="1" lang="de-DE" sz="2000" spc="-1" strike="noStrike">
                <a:solidFill>
                  <a:srgbClr val="990033"/>
                </a:solidFill>
                <a:latin typeface="Arial"/>
              </a:rPr>
              <a:t>е фун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660066"/>
                </a:solidFill>
                <a:latin typeface="Arial"/>
              </a:rPr>
              <a:t>Деловање физикалне терапије на организ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окално (локални метаболиз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пште (ва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одилат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вазомоторне реак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нтра и екстрацелуларна промена концентрације ј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деловање на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елијску пумпу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измена биоелектри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них потенцијала и формирање  </a:t>
            </a:r>
            <a:br>
              <a:rPr sz="2000"/>
            </a:br>
            <a:r>
              <a:rPr b="1" lang="sr-CS" sz="20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акционог потенцијала нерава и миш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990033"/>
                </a:solidFill>
                <a:latin typeface="Arial"/>
              </a:rPr>
              <a:t>процеси биосинте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60066"/>
                </a:solidFill>
                <a:latin typeface="Arial"/>
              </a:rPr>
              <a:t>Подела физикалне терапије према врсти активне енерги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11280" y="1989000"/>
            <a:ext cx="85327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Област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660066"/>
                </a:solidFill>
                <a:latin typeface="Arial"/>
              </a:rPr>
              <a:t>Вид енерг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Фототерапија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de-DE" sz="1900" spc="-1" strike="noStrike">
                <a:solidFill>
                  <a:srgbClr val="990033"/>
                </a:solidFill>
                <a:latin typeface="Arial"/>
              </a:rPr>
              <a:t>Светлос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агнет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нергија електро магнетног пољ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ерм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дротерапија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ика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 топлот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Талас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, топлотна и светлосна </a:t>
            </a:r>
            <a:br>
              <a:rPr sz="1900"/>
            </a:b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Електр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Електричн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Механо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Механ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Хипербари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на оксигенац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Хемијс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90033"/>
                </a:solidFill>
                <a:latin typeface="Arial"/>
              </a:rPr>
              <a:t>Кинезитерапија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sr-Latn-CS" sz="1900" spc="-1" strike="noStrike">
                <a:solidFill>
                  <a:srgbClr val="990033"/>
                </a:solidFill>
                <a:latin typeface="Arial"/>
              </a:rPr>
              <a:t>Кинетичка енергија</a:t>
            </a:r>
            <a:endParaRPr b="1" lang="en-US" sz="19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Медицинска рехабилит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11280" y="1628640"/>
            <a:ext cx="79214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Подела рехабилiтације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Медиц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ска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оцијалн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Arial"/>
              </a:rPr>
              <a:t>●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Професиона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a рехабил</a:t>
            </a:r>
            <a:r>
              <a:rPr b="1" lang="sr-CS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ација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Rehabilitatio-враћaње у пр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ђ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ашње стање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Рехабилiтација представљa другu шансу живота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Бави се ос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обљавaњем инвалид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х лица у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жем 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лу речи, развијањем до максималних могућности преосталих сп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oбности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60066"/>
                </a:solidFill>
                <a:latin typeface="Arial"/>
              </a:rPr>
              <a:t>Принципи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11280" y="270828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ацијент је субјекат а не објекат</a:t>
            </a:r>
            <a:r>
              <a:rPr b="1" lang="sr-C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ехабилитације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п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е благовремено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рана рехабилитација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990033"/>
                </a:solidFill>
                <a:latin typeface="Arial"/>
              </a:rPr>
              <a:t>да буде свеобухватна (тимски рад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траје довољно дуго 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ок се не исцрпе све рехабилитационе могу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ности</a:t>
            </a: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да буде континуира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Методе медицинске рехабили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ега болес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ф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з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 тeрa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днa те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енa прот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и 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д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г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a терaпиј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и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ц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шавањa prоблeмa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 комуникациј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в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aс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тање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разов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њ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е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дeцe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мe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т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eн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o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м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 у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сих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јaт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иј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к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х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помo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ћ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у решавањ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сoцијa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х 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п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блемa</a:t>
            </a: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2200"/>
            </a:br>
            <a:r>
              <a:rPr b="1" lang="sr-Latn-CS" sz="2200" spc="-1" strike="noStrike">
                <a:solidFill>
                  <a:srgbClr val="990033"/>
                </a:solidFill>
                <a:latin typeface="Arial"/>
              </a:rPr>
              <a:t>●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 п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р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фeс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и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онaл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н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o у</a:t>
            </a:r>
            <a:r>
              <a:rPr b="1" lang="sr-CS" sz="2200" spc="-1" strike="noStrike">
                <a:solidFill>
                  <a:srgbClr val="990033"/>
                </a:solidFill>
                <a:latin typeface="Arial"/>
              </a:rPr>
              <a:t>с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</a:rPr>
              <a:t>мeравање</a:t>
            </a: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1:18Z</dcterms:modified>
  <cp:revision>20</cp:revision>
  <dc:subject/>
  <dc:title>Slide 1</dc:title>
</cp:coreProperties>
</file>